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77E-C293-429F-8780-59EAB1E0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E75D-6965-47DA-90B8-D7801805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D4B-24DA-472B-9455-08C2254D5AC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6852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7F12-9F20-417F-A6E8-E92B4A6C1EE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6852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3D5-8BB7-410F-A140-CFAFC090FB4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38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6852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852-DE43-412F-96C6-4AC09CF4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646-F727-4A81-9FE5-D3C7F11F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049-A47A-40E4-96BF-5A9C0EA4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FD8-BF1C-46D6-9185-B019674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A99-DED6-41C0-A467-8B515D01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91D-459E-452D-8892-3FF44B2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6EF-BD02-4B0A-88DD-3CB6020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B14-4654-40E7-AC55-73E7D53A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16B-C959-4568-A8D9-A8FFE1F9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DAB-C0BB-4581-B3B0-CE5C4C9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81F-4244-4CC7-9E6F-2BC057E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4EF-3B97-4A28-8D86-330C6C6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1F0-7596-45FB-9C89-F1A596A46B88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03 ФАРМАКОЕКОНОМИЈА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за тро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шкови - ефективност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ц др Михајло  Јаковљев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Пример: Нови лек</a:t>
            </a: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GB" sz="3600" spc="-1" strike="noStrike">
                <a:solidFill>
                  <a:srgbClr val="ffffff"/>
                </a:solidFill>
                <a:latin typeface="Calibri"/>
              </a:rPr>
              <a:t>vs</a:t>
            </a: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Сад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ња нега 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(стари ле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ljubaznoscu Prof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 flipH="1" rot="20725800">
            <a:off x="7241760" y="1177920"/>
            <a:ext cx="1908720" cy="395280"/>
          </a:xfrm>
          <a:prstGeom prst="rightArrow">
            <a:avLst>
              <a:gd name="adj1" fmla="val 79593"/>
              <a:gd name="adj2" fmla="val 10685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e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703600" y="4384800"/>
            <a:ext cx="48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ece1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508720" y="4365720"/>
            <a:ext cx="48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ece1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274920" y="5276880"/>
            <a:ext cx="19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ther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-252360" y="1989000"/>
            <a:ext cx="556272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95280" y="3500280"/>
            <a:ext cx="1015920" cy="952560"/>
          </a:xfrm>
          <a:prstGeom prst="rect">
            <a:avLst/>
          </a:prstGeom>
          <a:solidFill>
            <a:srgbClr val="005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059280" y="2276640"/>
            <a:ext cx="1015920" cy="217152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1547640" y="4005360"/>
            <a:ext cx="1017720" cy="42372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4211640" y="2565360"/>
            <a:ext cx="1015920" cy="1874880"/>
          </a:xfrm>
          <a:prstGeom prst="rect">
            <a:avLst/>
          </a:prstGeom>
          <a:solidFill>
            <a:srgbClr val="69c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179280" y="4435560"/>
            <a:ext cx="5273640" cy="144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V="1">
            <a:off x="181080" y="4419360"/>
            <a:ext cx="1440" cy="7596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 flipV="1">
            <a:off x="2817720" y="4419360"/>
            <a:ext cx="1800" cy="7596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V="1">
            <a:off x="5435640" y="4432320"/>
            <a:ext cx="144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677160" y="31114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3229920" y="19162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1605600" y="36399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242600" y="21891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712800" y="4621320"/>
            <a:ext cx="139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ost of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3295800" y="4621320"/>
            <a:ext cx="167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Averag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3196800" y="49086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Treatm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6227640" y="3416400"/>
            <a:ext cx="1009800" cy="1020600"/>
          </a:xfrm>
          <a:prstGeom prst="rect">
            <a:avLst/>
          </a:prstGeom>
          <a:solidFill>
            <a:srgbClr val="005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4"/>
          <p:cNvSpPr/>
          <p:nvPr/>
        </p:nvSpPr>
        <p:spPr>
          <a:xfrm>
            <a:off x="7740720" y="4006800"/>
            <a:ext cx="996840" cy="43020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6227640" y="1268280"/>
            <a:ext cx="1009800" cy="216072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7740720" y="2060640"/>
            <a:ext cx="996840" cy="1944720"/>
          </a:xfrm>
          <a:prstGeom prst="rect">
            <a:avLst/>
          </a:prstGeom>
          <a:solidFill>
            <a:srgbClr val="69c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5940360" y="4435560"/>
            <a:ext cx="3003480" cy="144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 flipV="1">
            <a:off x="5940360" y="4432320"/>
            <a:ext cx="180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9"/>
          <p:cNvSpPr/>
          <p:nvPr/>
        </p:nvSpPr>
        <p:spPr>
          <a:xfrm flipV="1">
            <a:off x="7451640" y="4432320"/>
            <a:ext cx="180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 flipV="1">
            <a:off x="8964720" y="4432320"/>
            <a:ext cx="144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1"/>
          <p:cNvSpPr/>
          <p:nvPr/>
        </p:nvSpPr>
        <p:spPr>
          <a:xfrm>
            <a:off x="6948720" y="458136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6398640" y="83664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7784280" y="170028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4"/>
          <p:cNvSpPr/>
          <p:nvPr/>
        </p:nvSpPr>
        <p:spPr>
          <a:xfrm flipH="1">
            <a:off x="7236000" y="1268280"/>
            <a:ext cx="72720" cy="8654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0000"/>
                </a:solidFill>
                <a:latin typeface="Calibri"/>
              </a:rPr>
              <a:t>Појмови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Ефикасност, клини</a:t>
            </a:r>
            <a:r>
              <a:rPr b="0" lang="sr-Latn-RS" sz="3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ки ефекат и стварна корист од лек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фикасност (efficacy) -– да ли л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ње пост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 н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о, тј. да ли “ради”? Процењује се у клин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им студија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лин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и ефекат (clinical effectiveness) –- степен у коме лек пост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 ефекат у клини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ој пракс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тварна корист од лека (efficiency) -– да ли је лек вредан цене коју за њега пл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ају појединци и др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во? Процењује се фармакоекономским студија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нализа трошкови / ефективност  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Главни исход од интереса је заједнички свим алтернативама али различити програми имају различит степен успеха у постизању овог заједничког исхода. Тако се пореде здравствена побољшања са потребним улагањима ме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у конкурентним терапијским протокол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ример је студија о општем скринингу на ХИВ трудница на територији Лондона, групе холандских ау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Начин на који су је извели је следећ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рограм А – скрининг се не 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рограм Б – скрининг се ради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рограм А – подразумева трошкове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Програм Б – трошкови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оследице спров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ења А су 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оследице спров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а Б су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од последицама се подразумева продужење година живота мајке антиретровиралном терапијом као и смањен проценат трансмисивности на плод и рађања ХИВ позитивних беба постигнут превентивним мерама у трудноћи, на порођају и током дој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Поређењем индекса  X/M 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Y/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 добијамо разлику између протокола А и Б у смислу добијених година живота и смањеном броју рођене ХИВ позитивне де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Уштеда друштвених средстава за негу ХИВ инфициране деце чији је очекивани животни век кратак,  доказано је да је већа од потребних улагања за  спровођење општег скрининга трудница у популацији са високом преваленцом болести.Резултат је јасно у прилог опције 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Ово је најчешћи тип фармакоекономске анали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503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Calibri"/>
              </a:rPr>
              <a:t>Анализа трошкови / ефективност   </a:t>
            </a:r>
            <a:r>
              <a:rPr b="0" lang="sr-Latn-CS" sz="3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000080"/>
            <a:ext cx="8329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вазилази проблем различите терапијске ефикасности или безбедности два л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шкови се пореде са једним или више клиничких исхода, заједничких за све испитиване груп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дужење година жив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евенираних случајева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излече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нежељених дејста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дана без симп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фикасност боља а трошкови већи (најчешћ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нос растућих трошкова за исту ефикасност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“Incremental Cost-Effectiveness ratio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CER=(Ca-Cb) : (Ba-B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Cb: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ошко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“cost”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ечења а и 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b: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“benefit”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ечења а и 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Black"/>
              </a:rPr>
              <a:t>Још неки методолошки пример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360" y="1557000"/>
            <a:ext cx="3941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00"/>
                </a:solidFill>
                <a:latin typeface="Arial"/>
              </a:rPr>
              <a:t>Анализа минимизације трошкова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кућна нега и лечење психијатријских болесника ил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интервенције у малој хирургији – хернија и хемороид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00"/>
                </a:solidFill>
                <a:latin typeface="Arial"/>
              </a:rPr>
              <a:t>Анализа односа трошкова и ефекат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Школски пример је за колико година је продужен живот болесницима са хрони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ном бубрежном инсифицијенцијом ако се пореди дијализа и трансплантац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Трошкови по јединици ефекта, ил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Ефекти по јединици трошко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76720" y="1828800"/>
            <a:ext cx="36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00"/>
                </a:solidFill>
                <a:latin typeface="Arial"/>
              </a:rPr>
              <a:t>Анализа односа трошкова и корист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Близанци идентични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- сликар и оперски певач и обојица су поломила десну руку (социјална корист се вреднуј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ffff00"/>
                </a:solidFill>
                <a:latin typeface="Arial"/>
              </a:rPr>
              <a:t>Анализа односа трошкова и добити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– разматра појед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начне или вишеструке ефекте који нису заједнички за оба програ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BB6-268D-466F-9A89-BB2C307F4F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једноставни мо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ранспарентно презентовање резул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ксплицитно презентовање квалитета изворних подат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екватна анализа сензит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мпарабилна са другим сличним студ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Добра фармакоекономска студ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Разлике у пријављеним резултатима од тржишта до тржиш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одсетићемо се да се резултати фармакоекономских студија од једне до друге регије или националне економије значајно разлику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Неки од узрока су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различити системи обрачуна ра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различити системи рефундирања трош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степен развијености датог друш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величина узорка и примењени метод статистич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варијације у алгоритмима лекарске прак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Аналитички окв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е студи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“clinical trial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un the study and collect the da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рмакоекономске анал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ollect the data and run the stud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тем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ко модел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o beyond the study resul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линичке студије - клинички и економски парамет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епосредно праћење клиничког исхода у корелацији са трошковима оствареним током студ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граничен узорак популације испитаника (селекција болесни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граничени временски период (недеље, месеци, ретко годи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етодолошки приступ углавном следи постулате рандомизираних контролисаних студија (РЦ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Б. Фармакоекономске анализе - у ужем смисл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 клиничких и економских података се долази посредно, коришћењем већ постојећих ресурса: једна, више или све доступне публиковане студ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зе података медицинских установа, фондова здравстеног осигурања или статистичких за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ира (организација, град, регион) или читава популација испитаника (национални ни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ири временски период (здравствени програм или инвестициони циклу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тска и критичка анализа свих изворних податак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"technology appraisal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.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Математичко моделирањ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еменска (нпр. животни век) или просторна (нпр. цела нација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екстраполација резул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едјивање граница поверења добијених резултата (корекција несигурност базичних подата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оводи се надградњом једног од претходна два приступа математичким поступц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cision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rkov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onte Carlo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Основни типови економске анализе примењене на здравствени сектор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ost-of-illn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или анализа тр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кова 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“Cost / minimization” , анализа минимизације тр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Cost / effectiveness” , анализа тр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ви 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фек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“Cost / benefit” ил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анализа трошкови /  доби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Cost / utility”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нализ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трошкови / корис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Критеријуми потпуности економске анализе су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) Да ли се разматрају две или више алтернатив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) Да ли су трошкови и последице узети у обзир за сваку од могућно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Пример: Нови лек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ња нега </a:t>
            </a:r>
            <a:br>
              <a:rPr sz="3600"/>
            </a:br>
            <a:r>
              <a:rPr b="0" lang="sr-Latn-RS" sz="3600" spc="-1" strike="noStrike">
                <a:solidFill>
                  <a:srgbClr val="000000"/>
                </a:solidFill>
                <a:latin typeface="Calibri"/>
              </a:rPr>
              <a:t>(стари лек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ljubaznoscu Prof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5435640" y="2085840"/>
            <a:ext cx="2044800" cy="466920"/>
          </a:xfrm>
          <a:prstGeom prst="rightArrow">
            <a:avLst>
              <a:gd name="adj1" fmla="val 79593"/>
              <a:gd name="adj2" fmla="val 96913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Net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703600" y="4384800"/>
            <a:ext cx="48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ece1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651640" y="4365720"/>
            <a:ext cx="48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ece1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274920" y="5276880"/>
            <a:ext cx="19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-252360" y="2006640"/>
            <a:ext cx="556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95280" y="3500280"/>
            <a:ext cx="1015920" cy="952560"/>
          </a:xfrm>
          <a:prstGeom prst="rect">
            <a:avLst/>
          </a:prstGeom>
          <a:solidFill>
            <a:srgbClr val="005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059280" y="3716280"/>
            <a:ext cx="1015920" cy="73188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547640" y="4005360"/>
            <a:ext cx="1017720" cy="42372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11640" y="2565360"/>
            <a:ext cx="1015920" cy="1874880"/>
          </a:xfrm>
          <a:prstGeom prst="rect">
            <a:avLst/>
          </a:prstGeom>
          <a:solidFill>
            <a:srgbClr val="69c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79280" y="4435560"/>
            <a:ext cx="5273640" cy="144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81080" y="4419360"/>
            <a:ext cx="1440" cy="7596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2817720" y="4419360"/>
            <a:ext cx="1800" cy="7596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5435640" y="4432320"/>
            <a:ext cx="144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677160" y="31114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229920" y="306864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1605600" y="36399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4242600" y="21891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785520" y="4621320"/>
            <a:ext cx="139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ost of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3295800" y="4621320"/>
            <a:ext cx="167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Averag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96800" y="49086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Treatm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6227640" y="3416400"/>
            <a:ext cx="1009800" cy="1020600"/>
          </a:xfrm>
          <a:prstGeom prst="rect">
            <a:avLst/>
          </a:prstGeom>
          <a:solidFill>
            <a:srgbClr val="005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7740720" y="4006800"/>
            <a:ext cx="996840" cy="43020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6227640" y="2739960"/>
            <a:ext cx="1009800" cy="68904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7740720" y="2060640"/>
            <a:ext cx="996840" cy="1944720"/>
          </a:xfrm>
          <a:prstGeom prst="rect">
            <a:avLst/>
          </a:prstGeom>
          <a:solidFill>
            <a:srgbClr val="69c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5940360" y="4435560"/>
            <a:ext cx="3003480" cy="144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 flipV="1">
            <a:off x="5940360" y="4432320"/>
            <a:ext cx="180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 flipV="1">
            <a:off x="7451640" y="4432320"/>
            <a:ext cx="180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 flipV="1">
            <a:off x="8964720" y="4432320"/>
            <a:ext cx="144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6948720" y="458136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6368400" y="17002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784280" y="15573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7596360" y="2060640"/>
            <a:ext cx="71280" cy="647640"/>
          </a:xfrm>
          <a:custGeom>
            <a:avLst/>
            <a:gdLst>
              <a:gd name="textAreaLeft" fmla="*/ 45720 w 71280"/>
              <a:gd name="textAreaRight" fmla="*/ 7164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Пример: Нови лек</a:t>
            </a: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GB" sz="3600" spc="-1" strike="noStrike">
                <a:solidFill>
                  <a:srgbClr val="ffffff"/>
                </a:solidFill>
                <a:latin typeface="Calibri"/>
              </a:rPr>
              <a:t>vs</a:t>
            </a: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Сад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ња нега 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Calibri"/>
              </a:rPr>
              <a:t>(стари ле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ljubaznoscu Prof Annemans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 flipH="1" rot="19330800">
            <a:off x="7235280" y="1052640"/>
            <a:ext cx="1908000" cy="396720"/>
          </a:xfrm>
          <a:prstGeom prst="rightArrow">
            <a:avLst>
              <a:gd name="adj1" fmla="val 79593"/>
              <a:gd name="adj2" fmla="val 10643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e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703600" y="4384800"/>
            <a:ext cx="48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ece1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508720" y="4365720"/>
            <a:ext cx="48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ece1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274920" y="5276880"/>
            <a:ext cx="19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-252360" y="1989000"/>
            <a:ext cx="556272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95280" y="3500280"/>
            <a:ext cx="1015920" cy="952560"/>
          </a:xfrm>
          <a:prstGeom prst="rect">
            <a:avLst/>
          </a:prstGeom>
          <a:solidFill>
            <a:srgbClr val="005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059280" y="2997360"/>
            <a:ext cx="1015920" cy="145080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547640" y="4005360"/>
            <a:ext cx="1017720" cy="42372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211640" y="2565360"/>
            <a:ext cx="1015920" cy="1874880"/>
          </a:xfrm>
          <a:prstGeom prst="rect">
            <a:avLst/>
          </a:prstGeom>
          <a:solidFill>
            <a:srgbClr val="69c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179280" y="4435560"/>
            <a:ext cx="5273640" cy="144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V="1">
            <a:off x="181080" y="4419360"/>
            <a:ext cx="1440" cy="7596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V="1">
            <a:off x="2817720" y="4419360"/>
            <a:ext cx="1800" cy="7596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V="1">
            <a:off x="5435640" y="4432320"/>
            <a:ext cx="144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677160" y="31114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3303000" y="25653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605600" y="36399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4242600" y="21891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914400" y="4581360"/>
            <a:ext cx="139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ost of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3295800" y="4621320"/>
            <a:ext cx="167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Averag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3196800" y="49086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Treatm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6227640" y="3416400"/>
            <a:ext cx="1009800" cy="1020600"/>
          </a:xfrm>
          <a:prstGeom prst="rect">
            <a:avLst/>
          </a:prstGeom>
          <a:solidFill>
            <a:srgbClr val="005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7740720" y="4006800"/>
            <a:ext cx="996840" cy="43020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6227640" y="1916280"/>
            <a:ext cx="1009800" cy="1512720"/>
          </a:xfrm>
          <a:prstGeom prst="rect">
            <a:avLst/>
          </a:prstGeom>
          <a:solidFill>
            <a:srgbClr val="60a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7740720" y="2060640"/>
            <a:ext cx="996840" cy="1944720"/>
          </a:xfrm>
          <a:prstGeom prst="rect">
            <a:avLst/>
          </a:prstGeom>
          <a:solidFill>
            <a:srgbClr val="69c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5940360" y="4435560"/>
            <a:ext cx="3003480" cy="144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5940360" y="4432320"/>
            <a:ext cx="180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7451640" y="4432320"/>
            <a:ext cx="180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0"/>
          <p:cNvSpPr/>
          <p:nvPr/>
        </p:nvSpPr>
        <p:spPr>
          <a:xfrm flipV="1">
            <a:off x="8964720" y="4432320"/>
            <a:ext cx="1440" cy="76320"/>
          </a:xfrm>
          <a:prstGeom prst="line">
            <a:avLst/>
          </a:prstGeom>
          <a:ln w="9360">
            <a:solidFill>
              <a:srgbClr val="2e8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>
            <a:off x="6948720" y="458136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6398640" y="15573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7784280" y="1773360"/>
            <a:ext cx="8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11111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4"/>
          <p:cNvSpPr/>
          <p:nvPr/>
        </p:nvSpPr>
        <p:spPr>
          <a:xfrm flipH="1">
            <a:off x="7236000" y="1916280"/>
            <a:ext cx="71280" cy="217440"/>
          </a:xfrm>
          <a:custGeom>
            <a:avLst/>
            <a:gdLst>
              <a:gd name="textAreaLeft" fmla="*/ 45720 w 71280"/>
              <a:gd name="textAreaRight" fmla="*/ 71640 w 71280"/>
              <a:gd name="textAreaTop" fmla="*/ 5400 h 217440"/>
              <a:gd name="textAreaBottom" fmla="*/ 212040 h 2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7:52:15Z</dcterms:created>
  <dc:creator>007</dc:creator>
  <dc:description/>
  <dc:language>en-US</dc:language>
  <cp:lastModifiedBy>ARHANGEL</cp:lastModifiedBy>
  <dcterms:modified xsi:type="dcterms:W3CDTF">2012-03-10T13:17:51Z</dcterms:modified>
  <cp:revision>42</cp:revision>
  <dc:subject/>
  <dc:title>Slide 1</dc:title>
</cp:coreProperties>
</file>